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15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F076-CB5B-4015-9BDA-3B266E961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past 20 years, cognitive science has boomed – and shown us much more about how we humans learn and how our brains process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05C-08D6-465E-91C8-5D46958F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9400" y="393984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F8C-B76D-4C5E-A88A-647FA69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0684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21C-CCA7-47A4-9C3E-5A67C712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3892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98800" y="158220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940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3892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98800" y="3939840"/>
            <a:ext cx="2342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317-169D-44FD-BB78-A1ECF51A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E10-1EAB-4324-80C0-E64DA116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F2F-CF71-435E-A690-76A5F3E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D4E-F3A5-4FF2-8175-7ED1BEC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890-3BF6-403E-8A4F-E802EF0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9400" y="18396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C2B-2B46-4BCB-BB04-C315FEA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BBE-226F-4508-AB49-CA3F881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06840" y="393984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ECE-BB4C-4762-B06E-2BA3B84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06840" y="1582200"/>
            <a:ext cx="35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9400" y="3939840"/>
            <a:ext cx="7274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A9A-B48B-4307-B8A1-62453CD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9400" y="6248520"/>
            <a:ext cx="178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7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1640" y="624852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C3FC-33E9-48C7-BC0C-ADEFF3A23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0"/>
            <a:ext cx="14256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2470320"/>
            <a:ext cx="620640" cy="153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582560"/>
            <a:ext cx="1424160" cy="212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1160" y="1792440"/>
            <a:ext cx="877680" cy="218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440" y="2014560"/>
            <a:ext cx="808200" cy="198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0" y="2236680"/>
            <a:ext cx="826920" cy="1764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 flipV="1">
            <a:off x="1420920" y="0"/>
            <a:ext cx="6516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7"/>
          <a:stretch/>
        </p:blipFill>
        <p:spPr>
          <a:xfrm>
            <a:off x="46080" y="47520"/>
            <a:ext cx="1282680" cy="12798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38160" y="6534000"/>
            <a:ext cx="1330200" cy="2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ole Classroom Environment Plays in Learning 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dsets – Getting Past F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6400" y="1557360"/>
            <a:ext cx="685800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feel when learning mat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’re good at math, how did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good a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feel you’re not particularly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h, why do you suppose that’s 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know about how learning happens inside your br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happens to our brains when we learn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arning physically alters the brai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rain’s cells, called neur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new and more complex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physically alters the brain’s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36960" y="1959120"/>
            <a:ext cx="45594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neurons that communicate with each other, the axons and synapses, multiply and create new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9240" y="2419200"/>
            <a:ext cx="6238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networks inside our brains change from simple to compl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79800" y="2344680"/>
            <a:ext cx="2671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. Carol Dweck’s Resear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9400" y="2230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City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ere taught how the brain changes as it learns via a slide show called “Brainology,” similar to what you just saw.  These students formed the “test grou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tudents were taught study skills.  This became the “control grou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happened to the test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ho found out how the brain changes as it learns developed what Dweck calls a “growth mindset,” a belief that intelligence changes and grows as people learn things – that intelligence is not determined genetically but builds over time through har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9400" y="10108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else happened to the test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general student population’s math grades declined during middle school, those of the test group actually incr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reported that students were seeking help when they became confused instead of giv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tudents were interested in tackling even very difficult and challenging math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ed to the control gro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ontrol group kept a “fixed mindset,” the belief that one’s intelligence is pretty much fixed at bi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middle school, their math grades dec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tudents who were strong in math were afraid to tackle new and more difficult math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6400" y="1557360"/>
            <a:ext cx="6858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the classroom environment and culture so   important for learning mat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this be a part of our physical bo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weck’s Conclusion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our “toughest” students want to be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tudents are given information about how to become smarter, they take advantage of learning opportun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tudents are also less worried about preserving their image of being “smart.”  They realize that image doesn’t matter.  What matters is how hard they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of us were not brought up in a culture, or family that believed in a “growth mindset.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idea of a growth mindset affect us as teac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ight it change our interactions with our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is the concept of Mindsets so powerful for learning math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if our students believe they are not genetically endowed with “the math gene,” why should they even try to lear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, if they believe they are endowed with “the math gene,” why would they risk looking dumb by trying to solve really hard math probl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he Brain Lea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NK-INK-PAIR-S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6400" y="1557360"/>
            <a:ext cx="6858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it important to write thoughtful lesson plan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s of lessons make the strongest and most memorable connections in the b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97120" y="2355840"/>
            <a:ext cx="2482920" cy="30862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63400" y="1972800"/>
            <a:ext cx="4669200" cy="3692880"/>
            <a:chOff x="2363400" y="1972800"/>
            <a:chExt cx="4669200" cy="3692880"/>
          </a:xfrm>
        </p:grpSpPr>
        <p:sp>
          <p:nvSpPr>
            <p:cNvPr id="117" name=""/>
            <p:cNvSpPr/>
            <p:nvPr/>
          </p:nvSpPr>
          <p:spPr>
            <a:xfrm flipV="1">
              <a:off x="2472120" y="1972800"/>
              <a:ext cx="15919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12320" y="2122560"/>
              <a:ext cx="152028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656680" y="3951720"/>
              <a:ext cx="126684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363400" y="3951720"/>
              <a:ext cx="159264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162240" y="185400"/>
            <a:ext cx="484524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  <a:ea typeface="Times New Roman"/>
              </a:rPr>
              <a:t>HOW THE BRAIN LEA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James E. Zull’s bo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rt of Changing the Br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Front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28520" y="1923840"/>
            <a:ext cx="484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2439720"/>
            <a:ext cx="8593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Reflective Ob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e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PLO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D &amp; EVALU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ncrete Experience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EN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S HERE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  <a:ea typeface="Times New Roman"/>
              </a:rPr>
              <a:t>Back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arning Follows a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ery Similar to th 5 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ce the Two Periods of Reflection Needed fo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es a 5 E’s lesson look 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look at our handout of this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surprised you the most about the Inquiry or 5 Es Cyc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is a physical reason why culture and environment plays such a powerful role in learning math – and it’s found deep inside our b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2960" y="2801880"/>
            <a:ext cx="40752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04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it of Brain Research:  Teaching, Learning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&amp;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58080" y="26888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 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coming an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9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752480" y="3352680"/>
            <a:ext cx="36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30240" y="95256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6400" y="1557360"/>
            <a:ext cx="6858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es it take to become an expert in something?  This could be chess, golf, football, mathematics, rare stamp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instorm with a partner and then share with another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 about 1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86080" y="304920"/>
            <a:ext cx="742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does it take to become an expe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pproximately 10,000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 about 1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i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berate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BUT deliberate practice is not practice as we usually think of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Deliberate Pract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one aspect of quality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ing exactly what “great”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goals, reaching them, setting new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in much more practice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mplications does this information have for ou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mplications, too, does this information have for us as teac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IBLIOI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9400" y="1327320"/>
            <a:ext cx="7274160" cy="45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vin, Geoffrey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lent is Overa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New York:  Penguin Press,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weck, Carol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ndset:  The New Psychology of Succes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Ballantine Books, 200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adwell, Malcolm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lier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Little, Brown &amp; Co.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ett, Richard 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lligence and How to Get I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New York:  W.W. Norton &amp; Company,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sa, David A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ow the Brain Learns Mathema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Thousand Oaks, CA:  Corwin Press,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der, Velma and D’Arcangelo, Marcia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Brain and Mathema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lexandria, VA:  ASCD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ull, James 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rt of Changing the Br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Sterling, VA:  Stylus, 200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9400" y="1839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bit of information we take into our brains is first routed through our amygda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9400" y="1582560"/>
            <a:ext cx="70455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9400" y="7552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ur amygdala determines whether we should prepare to incorporate this information into our brains – or flee from dang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9400" y="2925720"/>
            <a:ext cx="7274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9400" y="888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happens to learning when the “flight” instinct takes o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9400" y="27540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ork to preserve themselves both physically and emotion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is put on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9400" y="8028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much stress do we need to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69840" y="3001680"/>
            <a:ext cx="7273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ate stress levels are best for learning.  In moderate stress situations, the brain stays alert and ready to learn – but not ready to fle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9400" y="10108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much stress do we need to perform at our b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9400" y="1582200"/>
            <a:ext cx="7274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stress environments are best for testing and other types of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9400" y="6220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is the classroom environment and culture so important for learning math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440" y="1582200"/>
            <a:ext cx="356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 without a safe learning environment where risk-taking is encouraged, it is very difficult – and sometimes even impossible – to learn at a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6879" t="50470" r="18414" b="4952"/>
          <a:stretch/>
        </p:blipFill>
        <p:spPr>
          <a:xfrm>
            <a:off x="1679400" y="20588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4:56:19Z</dcterms:created>
  <dc:creator>David Albert</dc:creator>
  <dc:description/>
  <dc:language>en-US</dc:language>
  <cp:lastModifiedBy>Marcia DeJesus</cp:lastModifiedBy>
  <dcterms:modified xsi:type="dcterms:W3CDTF">2009-11-02T09:42:04Z</dcterms:modified>
  <cp:revision>55</cp:revision>
  <dc:subject/>
  <dc:title>PowerPoint Presentation</dc:title>
</cp:coreProperties>
</file>